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292-0A9E-4658-A031-4656BB13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9DC-18BA-4B6F-844F-332CD272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5F6-819B-40AC-90D3-A39F621F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0F5-44DC-4466-8129-F22B1A16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99D-110F-4ED9-8505-3860D0DE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073-AAD8-4D70-ADA7-32F9E66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AE2-4C0B-48C1-B1BC-DA8CD2D2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D07-1825-4022-AE93-E84949A8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03C-9148-4E5F-B8CC-1D897F03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F71-6C58-47F1-816F-80AE83B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ADC-4175-40C3-A243-F69720A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719-7F06-4174-A295-6B4981B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A36E-18AD-46A9-811E-28983FA18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23623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Arial"/>
                <a:ea typeface="华文新魏"/>
              </a:rPr>
              <a:t>集体因为有了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32742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请一些表现好的同学介绍他们开学以来为班级做了哪些事情及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她，连续三年被评为市三好生，获的《半月谈》杂志特等优秀奖学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初一时，她就担任了班长。不久，她带领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名少先队员当上了月牙公园的拔草大队的绿色天使。初二时，她带领学雷锋小队到车站义务劳动，到五保户家为老人送温暖。班主任休病假时，她代班主任主持工作。她那以身作则的正气和期待的目光，使“好战分子”不敢无视班规而影响集体的荣誉…她学习勤奋，同学们纷纷效仿。她所在的班级学习气氛浓厚，多次在统考中名列前茅。初三毕业，他以优异的成绩被重点高中录取，同学们说：“班长的胜利就是我们的胜利”、“向班长看齐”，同学们同样使她惊喜，中考合格率、优秀率、升学率居全区之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Arial"/>
              </a:rPr>
              <a:t>从黄佳仪和她同学的身上，你看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Arial"/>
              </a:rPr>
              <a:t>根据自己的体验，表述个人和集体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3060000"/>
            <a:ext cx="84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华文新魏"/>
                <a:ea typeface="华文新魏"/>
              </a:rPr>
              <a:t>在集体生活中，如果大家形成向心力和凝聚力，自觉地加强集体荣誉感，发扬集体主义精神，以为班集体服务为荣，为同学奉献一颗爱心，团结友爱，自觉遵守纪律，敢于批评损害集体利益的不良现象，勇于自我批评，那么，这个集体就会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因为我的存在而使别人生活得更美好”。</a:t>
            </a:r>
            <a:r>
              <a:rPr b="1" lang="zh-CN" sz="3600" spc="-1" strike="noStrike">
                <a:solidFill>
                  <a:srgbClr val="33cc33"/>
                </a:solidFill>
                <a:latin typeface="华文新魏"/>
                <a:ea typeface="华文新魏"/>
              </a:rPr>
              <a:t>这正是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众人拾柴火焰高”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067120"/>
            <a:ext cx="87487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华文新魏"/>
                <a:ea typeface="华文新魏"/>
              </a:rPr>
              <a:t>如何才能使“集体因为有了我”而骄傲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从小事做起，培养责任心和义务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尊重同学，真诚相助，彼此激动，不疾贤妒能，不欺侮弱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心胸开阔，没有小团体主义和狭隘的集体主义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个人利益和集体利益发生冲突时，放弃个人利益，将集体利益放在第一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自觉地遵守《中学生日常行为规范》和校纪、班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2923920"/>
            <a:ext cx="896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课后活动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33cc33"/>
                </a:solidFill>
                <a:latin typeface="华文新魏"/>
                <a:ea typeface="华文新魏"/>
              </a:rPr>
              <a:t>写一篇“集体因为有了我”的百字小短文，写完后在班级展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162864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结束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滴水只有放进大海里才能永远不会干涸，一个人只有当他自己和集体事业融合在一起的时候才能最有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雷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盘散沙团结起来了，睡狮觉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恩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22096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206064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明天就是校第六届体育节了？你能为班级做点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957600"/>
            <a:ext cx="835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我 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我是沙漠中 的一粒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一粒沙相对广阔的沙漠十分微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我是茫茫草原中的一棵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一棵草相对茫茫草原更是难以寻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我是大海中的一滴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一滴水相对无边的大海是那么微不足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我是蓝天中的一朵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一朵云相对无垠的蓝天更是那么渺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15447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虽然一粒沙构不成广阔的沙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然而沙漠却是由无数颗沙粒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虽然一棵草形不成茫茫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然而茫茫草地缺少不了它的每一棵小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虽然一滴水形不成浩瀚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然而浩瀚的海洋却从不忽视它怀抱中的每一滴水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虽然一朵白云不能描绘出迷人的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然而天空的美丽却因为有了这朵朵白云而更加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2871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：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你们阅读了上面的小诗，有什么想法，它想告诉我们一个什么道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0920" y="2230560"/>
            <a:ext cx="470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个人是集体中不可缺少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一员。集体的进步和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需要靠每个成员的关心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爱护和付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2819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　       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那么 集体究竟是什么呢？有人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集体是个人健康成长的摇篮和沃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集体的发展有赖于每个人的发展。”那么，个人只有融于集体，才能生活得多姿多彩，有所作为。集体可以催人奋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激励人不断自我完善，鼓舞人乐观自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个人的进步与成功，彼此见的相互支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以使集体充满生机，不断前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9640" y="2608560"/>
            <a:ext cx="807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请同学们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隶书"/>
                <a:ea typeface="华文隶书"/>
              </a:rPr>
              <a:t>当与集体的步调不一致，你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周一，升旗仪式上，同学们按照规定的要求穿上校服，戴好少先队标志，惟独小王没有按照要求穿校服。在全班整齐的队伍中格外引人注目。值日老师给他所在的班级扣了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9900"/>
                </a:solidFill>
                <a:latin typeface="华文新魏"/>
                <a:ea typeface="华文新魏"/>
              </a:rPr>
              <a:t>分。事后，同学们批评他给班级抹黑，他还不服气说“我昨天晚上洗的校服没有干，怎么穿？别的班不是也没有穿校服的吗？”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293004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小华和妈妈约好周六去参观少年宫，这是他梦寐以求的愿望，心中十分高兴，走起路来不是跳就是唱。今天，学校通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周六组织美化校园活动，要求各班学生不得无故请假，活动之后进行先进班级的评比。小华听到通知后，心里七上八下，放弃参观不甘心，不参加学校的活动又怕受到老师的批评，一时不知如何是好，心里烦躁不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1820880"/>
            <a:ext cx="854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针对上面的两个事例请同学们谈谈自己的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66cc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66cc"/>
                </a:solidFill>
                <a:latin typeface="华文新魏"/>
                <a:ea typeface="华文新魏"/>
              </a:rPr>
              <a:t>小王的说法对吗？你遇到过这样的情况吗？你觉得该怎样说服小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cc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66cc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66cc"/>
                </a:solidFill>
                <a:latin typeface="华文新魏"/>
                <a:ea typeface="华文新魏"/>
              </a:rPr>
              <a:t>结合自己的亲身体会谈谈你认为小华应该怎么办？为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23:46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7:52Z</dcterms:modified>
  <cp:revision>46</cp:revision>
  <dc:subject>主题班会课件(分28大类): http://shop62905894.taobao.com</dc:subject>
  <dc:title>主题班会课件(分28大类): http://shop62905894.taobao.com</dc:title>
</cp:coreProperties>
</file>